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6080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C13DC3-81D2-4B07-A495-3C3D6A9C726F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There are some center effects as within center correlation are higher than for all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nter 3 has lower correlation on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Within population have higher correlation than for all samples (except CE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F0B556-EEAB-4B25-9FB1-641A77217C9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orrelation between duplicate samples are higher that between different samples =&gt; g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Difference large enough? (0.950 vs 0.96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The correlation distribution is narrower (Std approximately half) =&gt;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No center or population out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A390A4-42BF-44D7-A432-41F53A8B1A7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DB5E9-4AD5-4C89-821D-CD8E4CB201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A4A58-592F-422F-BCBE-3A95886E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8D08F-3B59-49E8-8BA0-05626C3B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77928-F95C-4E1F-950A-FAAF9CA750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7C686-CEDC-47AF-A753-E3179E5C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C368D-5EF2-4349-B72F-3A93B353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786A8-7CEC-43A5-80D0-D03B12A1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9EA93-269A-48E2-BCC6-49268E15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F08A8-C8A3-45C9-B96F-057EAD49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8E74A-E6CD-4FF6-A0A7-F41BB16B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E3845-92CC-4902-A183-0DF9E44B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61F1D-96F4-4535-91CE-898260F7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sv-S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12-07-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sv-S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E39851-F8F6-4020-BD6C-165673B113A9}" type="slidenum">
              <a:rPr b="0" lang="sv-S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QC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898989"/>
                </a:solidFill>
                <a:latin typeface="Calibri"/>
              </a:rPr>
              <a:t>Uppsal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898989"/>
                </a:solidFill>
                <a:latin typeface="Calibri"/>
              </a:rPr>
              <a:t>Work done by Jonas Almlö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898989"/>
                </a:solidFill>
                <a:latin typeface="Calibri"/>
              </a:rPr>
              <a:t>Presented by Olof Karlbe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C13933-6DD3-4C82-9AA8-ADF741D9318A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psala outl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G00266.6.M_120119_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G00263.6.M_120119_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20787.6.M_120119_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from a single lane, should be 8 samples per la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e 3 was underclustered with an uneven pool (5-22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hree samples above were kept, while the others were resequenc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e to the low density, the Q-scores are higher than on the other la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051B43-1DB4-4DAC-9EDE-1ADEEE82A2BF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QC – Variable outliers (BW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High read duplication % (Avg: 27.9%, Std: 4.0%)</a:t>
            </a:r>
            <a:r>
              <a:rPr b="1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r>
              <a:rPr b="0" lang="sv-SE" sz="1700" spc="-1" strike="noStrike">
                <a:solidFill>
                  <a:srgbClr val="000000"/>
                </a:solidFill>
                <a:latin typeface="Calibri"/>
              </a:rPr>
              <a:t>HG00099.5.M_120131_3 (51%), HG00329.5.M_120131_3 (48%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High % unmapped reads (Avg: 13.0%, Std: 1.7%)</a:t>
            </a:r>
            <a:r>
              <a:rPr b="1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r>
              <a:rPr b="0" lang="sv-SE" sz="1700" spc="-1" strike="noStrike">
                <a:solidFill>
                  <a:srgbClr val="000000"/>
                </a:solidFill>
                <a:latin typeface="Calibri"/>
              </a:rPr>
              <a:t>NA12889.3.M_120223_7 (26%, PC2), HG00329.5.M_120131_3 (24%, high dupl %), </a:t>
            </a:r>
            <a:r>
              <a:rPr b="1" lang="sv-SE" sz="1700" spc="-1" strike="noStrike">
                <a:solidFill>
                  <a:srgbClr val="000000"/>
                </a:solidFill>
                <a:latin typeface="Calibri"/>
              </a:rPr>
              <a:t>HG00345.1.M_120209_1 (23%, new)</a:t>
            </a:r>
            <a:r>
              <a:rPr b="0" lang="sv-SE" sz="1700" spc="-1" strike="noStrike">
                <a:solidFill>
                  <a:srgbClr val="000000"/>
                </a:solidFill>
                <a:latin typeface="Calibri"/>
              </a:rPr>
              <a:t>, HG00099.5.M_120131_3 (23%, high dupl %), NA19153.1.M_111124_7 (22%, PC3,4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Large difference in number of mapped reads from read one and two in the paired end read (Avg: 99.7%, Std: 0.7%)</a:t>
            </a:r>
            <a:br>
              <a:rPr sz="3000"/>
            </a:br>
            <a:r>
              <a:rPr b="0" lang="sv-SE" sz="1700" spc="-1" strike="noStrike">
                <a:solidFill>
                  <a:srgbClr val="000000"/>
                </a:solidFill>
                <a:latin typeface="Calibri"/>
              </a:rPr>
              <a:t>NA20805.4.M_120208_7 (r1 / r2 = 0.9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A4C3AA-6926-43BE-B355-DBFDB75CCEAA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QC – Variable outliers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6480" y="1189080"/>
            <a:ext cx="4584960" cy="2754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657520" y="1935000"/>
            <a:ext cx="40788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65520" y="1189080"/>
            <a:ext cx="4584960" cy="2754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565520" y="4108320"/>
            <a:ext cx="4584960" cy="2756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88000" y="6093000"/>
            <a:ext cx="4093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7445520" y="1844640"/>
            <a:ext cx="40788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914840" y="422100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Are these outlie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" name=""/>
          <p:cNvCxnSpPr>
            <a:stCxn id="123" idx="1"/>
          </p:cNvCxnSpPr>
          <p:nvPr/>
        </p:nvCxnSpPr>
        <p:spPr>
          <a:xfrm flipH="1" flipV="1">
            <a:off x="537840" y="3499920"/>
            <a:ext cx="1380240" cy="905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3" idx="3"/>
          </p:cNvCxnSpPr>
          <p:nvPr/>
        </p:nvCxnSpPr>
        <p:spPr>
          <a:xfrm flipV="1">
            <a:off x="3846240" y="3644640"/>
            <a:ext cx="943560" cy="761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3E5EDB-10F4-430D-A952-14509A8F0F8D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Expression corre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Correlate expression in genes and exons between all samples using spearman rank correlation in different set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All against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ithin ce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ithin pop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ithin populations and ce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Find out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2B2A35-BB26-4B1B-8A1D-7355B95B5E88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4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Exon corre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03360" y="901800"/>
            <a:ext cx="8545320" cy="4540320"/>
            <a:chOff x="603360" y="901800"/>
            <a:chExt cx="8545320" cy="454032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603360" y="901800"/>
              <a:ext cx="854532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03360" y="901800"/>
              <a:ext cx="8545320" cy="454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258920" y="544500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Outliers with low average correlation remo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enters and populations differ significantly from All samples (except TS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6480" y="1700280"/>
            <a:ext cx="892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Q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Medi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C6881C-588E-4102-9ACC-817C8C53F8F0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708280"/>
            <a:ext cx="817236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Calibri"/>
              </a:rPr>
              <a:t>Expression correlation – low coverage samp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Correlations between duplicate samples (low and high coverage of the same sample) to find out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Correlations between duplicate samples should be higher than between different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DD79DF-C87B-4A74-87A2-93FC85F51FE0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Calibri"/>
              </a:rPr>
              <a:t>Exon correlation: </a:t>
            </a:r>
            <a:br>
              <a:rPr sz="4000"/>
            </a:b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omparison between different samples and duplicate sam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0720" y="1596960"/>
            <a:ext cx="8240760" cy="4533840"/>
            <a:chOff x="450720" y="1596960"/>
            <a:chExt cx="8240760" cy="453384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450720" y="1596960"/>
              <a:ext cx="824076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0720" y="1596960"/>
              <a:ext cx="8240760" cy="45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782720" y="6237360"/>
            <a:ext cx="43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All within sample correlations are hig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65A812-ECB2-450F-B5C6-32AF819F51D4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4428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Exon correlation outliers / exclud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1052640"/>
          <a:ext cx="8351640" cy="5668920"/>
        </p:xfrm>
        <a:graphic>
          <a:graphicData uri="http://schemas.openxmlformats.org/drawingml/2006/table">
            <a:tbl>
              <a:tblPr/>
              <a:tblGrid>
                <a:gridCol w="2614680"/>
                <a:gridCol w="2106360"/>
                <a:gridCol w="3630600"/>
              </a:tblGrid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erage corre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: 0.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19144.4.M_120208_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e as Tuuli f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12058.5.M_120131_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11931.1.M_111124_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G00102.3.M_120202_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e as Tuuli f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11930.3.M_120202_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e as Tuuli f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11892.1.M_111124_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19247.3.M_120223_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ulis outlier (next in line, depends on where you draw the 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19225.6.M_120119_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luded due to contamination (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12399.7.M_120219_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luded due to contamination (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07000.1.M_120209_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luded due to contamination (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18861.4.M_120208_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luded due to contamination (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G00237.4.M_120208_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luded due to contamination (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93A4FA-504D-4FED-8F88-36C5F69F4AB1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iable/Exon correlation (BWA)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600200"/>
          <a:ext cx="8229600" cy="4144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fore Norma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ter Norma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pping profile b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-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-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. library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Duplicates &gt;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 body coverage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-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-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 body coverage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-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1 - -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8 - -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GC in max 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Explained by top 50/100 15 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1 - -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0 - -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 of top correl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48A38B-3EA6-46A7-98E4-3A64B225545F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To do /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Dubble check QC on GEM-aligned files (Data collection finished, but not analyz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Apply ”objective” outlier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tinuous sco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Annota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Make more use of the low complexity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F3EF16-7CF4-4E5B-8681-BEAA671A6922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rincipal component analysis (PCA) of QC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Analysis of individual QC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Expression correlation between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Expression correlation towards QC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13C27C-1B31-4232-A905-86BB789EDEF8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395DBA-A9CE-48FF-A813-02DFB300E70F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Variable / exon correlation (BW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Calibri"/>
              </a:rPr>
              <a:t>Clipping profile bins (0.13-0.17 after normalization =&gt; 0.08-0.1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Calibri"/>
              </a:rPr>
              <a:t>Estimated library size (0.14 =&gt; 0.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Calibri"/>
              </a:rPr>
              <a:t>% duplicates &gt; 10 (-0.12 =&gt; -0.1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Calibri"/>
              </a:rPr>
              <a:t>Gene body coverage 40-50% (0.09-0.13 =&gt; 0.10-0.1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Calibri"/>
              </a:rPr>
              <a:t>Gene body coverage 80-100% (-0.11--0.15 =&gt; -0.08--0.1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Calibri"/>
              </a:rPr>
              <a:t>% GC in max content (0.15 =&gt; 0.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Calibri"/>
              </a:rPr>
              <a:t>% explained by top 50/100 15 mers (-0.11--0.13 =&gt; </a:t>
            </a:r>
            <a:br>
              <a:rPr sz="2700"/>
            </a:br>
            <a:r>
              <a:rPr b="0" lang="sv-SE" sz="2700" spc="-1" strike="noStrike">
                <a:solidFill>
                  <a:srgbClr val="000000"/>
                </a:solidFill>
                <a:latin typeface="Calibri"/>
              </a:rPr>
              <a:t>-0.10--0.1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Calibri"/>
              </a:rPr>
              <a:t>Sum of top correlations (absolute value) 2.65 =&gt; 2.29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C1A4E6-7E05-430F-B7AC-ED3BF6222BE2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There are some center effects as within center correlation are higher than for all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Center 3 has lower correlation on ave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ithin population have higher correlation than for all samples (except CE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1205CE-2005-41F5-B6D8-379CEF51DFFB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Correlation between duplicate samples are higher that between different samples =&gt; good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Difference large enough? (0.950 vs 0.96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The correlation distribution is narrower (Std approximately half) =&gt; g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No center or population out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685435-8142-4A81-A603-184A7FEDEA64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QC -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FastQ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IC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RSeQC 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(Wang et al. Bioinformatics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Home made scri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35C90B-39C0-4E46-8602-B6818545C5A5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QC -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71360" y="1219320"/>
            <a:ext cx="8831520" cy="5240160"/>
            <a:chOff x="171360" y="1219320"/>
            <a:chExt cx="8831520" cy="524016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171360" y="1219320"/>
              <a:ext cx="8831520" cy="52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71360" y="1219320"/>
              <a:ext cx="8831520" cy="52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F875AD-C781-45F2-B7BE-F2884FF128A6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QC – outlier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CA: Find outliers in the first 4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Outlier per variable: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Initial filter 3 stdev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Ad hoc filter by importance and effect s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FEC2F4-D654-494C-95F5-3DB7451AABAE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26920" y="3557520"/>
            <a:ext cx="7777440" cy="28908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C1 – % GC, % nucleotide content</a:t>
            </a:r>
            <a:br>
              <a:rPr sz="3200"/>
            </a:b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NA18861.4.M_120208_5, HG00102.3.M_120202_8, NA19247.3.M_120223_7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C2 – Quality</a:t>
            </a:r>
            <a:br>
              <a:rPr sz="3200"/>
            </a:b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12399.7.M_120219_1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HG00139.7.M_120219_1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12873.7.M_120219_1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20803.7.M_120219_1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12889.3.M_120223_7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20774.7.M_120219_1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HG00266.6.M_120119_3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HG00263.6.M_120119_3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20787.6.M_120119_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C3 – Clipping profile, % gene body coverage</a:t>
            </a:r>
            <a:br>
              <a:rPr sz="3200"/>
            </a:b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NA20802.1.M_111124_7, NA19153.1.M_111124_7, NA12716.7.M_120219_6, NA18502.7.M_120219_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C4 – N content</a:t>
            </a:r>
            <a:br>
              <a:rPr sz="3200"/>
            </a:b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NA20773.6.M_120119_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Calibri"/>
              </a:rPr>
              <a:t>QC – principal components and outliers (BW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23548" t="37423" r="51020" b="31960"/>
          <a:stretch/>
        </p:blipFill>
        <p:spPr>
          <a:xfrm>
            <a:off x="7020000" y="4797360"/>
            <a:ext cx="2124000" cy="1806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0" t="70743" r="78737" b="254"/>
          <a:stretch/>
        </p:blipFill>
        <p:spPr>
          <a:xfrm>
            <a:off x="5148360" y="4764240"/>
            <a:ext cx="1871640" cy="1807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429880" y="6519960"/>
            <a:ext cx="369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Clipping profile</a:t>
            </a: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Gene body cover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A3B0EA-DCB2-48CA-A861-A2E2D26B64B6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26920" y="3594240"/>
            <a:ext cx="7777440" cy="2887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C1 – % GC, % nucleotide content</a:t>
            </a:r>
            <a:br>
              <a:rPr sz="3200"/>
            </a:b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NA18861.4.M_120208_5, HG00102.3.M_120202_8, NA19247.3.M_120223_7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C2 – Quality</a:t>
            </a:r>
            <a:br>
              <a:rPr sz="3200"/>
            </a:b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12399.7.M_120219_1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HG00139.7.M_120219_1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12873.7.M_120219_1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20803.7.M_120219_1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12889.3.M_120223_7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20774.7.M_120219_1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HG00266.6.M_120119_3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HG00263.6.M_120119_3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20787.6.M_120119_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C3 – Clipping profile, % gene body coverage</a:t>
            </a:r>
            <a:br>
              <a:rPr sz="3200"/>
            </a:b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NA20802.1.M_111124_7, NA19153.1.M_111124_7, NA12716.7.M_120219_6, NA18502.7.M_120219_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C4 – N content</a:t>
            </a:r>
            <a:br>
              <a:rPr sz="3200"/>
            </a:b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NA20773.6.M_120119_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Calibri"/>
              </a:rPr>
              <a:t>QC – principal components and outliers (BW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23548" t="37423" r="51020" b="31960"/>
          <a:stretch/>
        </p:blipFill>
        <p:spPr>
          <a:xfrm>
            <a:off x="7020000" y="4797360"/>
            <a:ext cx="2124000" cy="1806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0" t="70743" r="78737" b="254"/>
          <a:stretch/>
        </p:blipFill>
        <p:spPr>
          <a:xfrm>
            <a:off x="5148360" y="4764240"/>
            <a:ext cx="1871640" cy="180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29880" y="6519960"/>
            <a:ext cx="369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Clipping profile</a:t>
            </a: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Gene body cover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7470FD-8C52-488A-A4E9-10A9430FF532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PC 1 and 2 </a:t>
            </a: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(%GC and qual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95320" y="901800"/>
            <a:ext cx="7278840" cy="2670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63720" y="3638520"/>
            <a:ext cx="7358040" cy="3225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19280" y="836640"/>
            <a:ext cx="649080" cy="72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4581360"/>
            <a:ext cx="647640" cy="71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91240" y="10098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Outl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183600" y="41497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Potential outl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"/>
          <p:cNvCxnSpPr>
            <a:stCxn id="90" idx="2"/>
            <a:endCxn id="92" idx="3"/>
          </p:cNvCxnSpPr>
          <p:nvPr/>
        </p:nvCxnSpPr>
        <p:spPr>
          <a:xfrm flipH="1" flipV="1">
            <a:off x="1117080" y="1193040"/>
            <a:ext cx="502560" cy="3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1" idx="0"/>
            <a:endCxn id="93" idx="3"/>
          </p:cNvCxnSpPr>
          <p:nvPr/>
        </p:nvCxnSpPr>
        <p:spPr>
          <a:xfrm flipH="1" flipV="1">
            <a:off x="1952280" y="4333320"/>
            <a:ext cx="349920" cy="248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673040" y="50846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Outl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6" idx="0"/>
          </p:cNvCxnSpPr>
          <p:nvPr/>
        </p:nvCxnSpPr>
        <p:spPr>
          <a:xfrm>
            <a:off x="7812000" y="4508640"/>
            <a:ext cx="317880" cy="576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6" idx="2"/>
          </p:cNvCxnSpPr>
          <p:nvPr/>
        </p:nvCxnSpPr>
        <p:spPr>
          <a:xfrm flipV="1">
            <a:off x="6012000" y="5452560"/>
            <a:ext cx="2118240" cy="929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C636D9-3B66-4CD9-AA94-F207EA9596DD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Calibri"/>
              </a:rPr>
              <a:t>PC 3 and 4</a:t>
            </a:r>
            <a:br>
              <a:rPr sz="4000"/>
            </a:b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(Clipping profile / gene body coverage and N cont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95320" y="1620720"/>
            <a:ext cx="7505640" cy="4475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219640" y="2133720"/>
            <a:ext cx="1081080" cy="1942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4005360"/>
            <a:ext cx="5184720" cy="172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6664680" y="35733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Outl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550650-E224-48ED-9A9B-ECE30F7B85EE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9T12:26:51Z</dcterms:created>
  <dc:creator>Jonas Carlsson</dc:creator>
  <dc:description/>
  <dc:language>en-US</dc:language>
  <cp:lastModifiedBy>Olof</cp:lastModifiedBy>
  <dcterms:modified xsi:type="dcterms:W3CDTF">2012-07-08T19:58:37Z</dcterms:modified>
  <cp:revision>247</cp:revision>
  <dc:subject/>
  <dc:title>QC analysis</dc:title>
</cp:coreProperties>
</file>